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AD0-CBF3-48A7-ADAE-24A516D8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426-C918-4C33-8A55-5475889F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B1B-19BA-4CC3-918B-51C2DDB6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7B6-F2DD-4DF4-8FA0-993302C3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A56B-3152-49A9-B3AF-80450C59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391E-9A27-46CF-B5A1-AD198A4C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2342-6A7B-4E33-8462-0EE820EC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60A2-E63D-4569-9817-A278279C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79AD-9349-4828-9BD3-4C2B8D52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63F9-3506-4D7F-86CC-64D0EC7C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C488-8A58-4E43-897F-818B69C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7FD-E8C4-41B5-8C8A-DB5EDB54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55F7-DB70-4CC8-9477-14260A6F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E18C-8D60-486B-BCB4-FE6BA252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5C6F-D531-49F4-A8A0-F659FC4F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1EF2-E47D-4513-AE4E-EED7142D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D446-AC13-4499-92D9-F892967E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835-47EF-4023-B7E8-0F246A8D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42F-B1E7-472B-8543-174DAFF4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390-F6A1-4ACB-90B9-A7EFED7A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2E5-A1B5-4B72-B34A-2EDDE38F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56A-3EF4-45AF-A785-2BE13D56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03D-4169-406A-8CDD-8898D675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D93-D4D6-4228-B9F0-849F6DB5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B885-2EB1-4FF6-B26C-E9C8CDAA4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79C1-289D-4AB5-8818-A7847648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r. Rutt’s Lab Ti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r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066680" y="2133720"/>
          <a:ext cx="6858000" cy="396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685800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ata Visualiz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better to visually represent you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you a better sense of how good your data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identify outlier data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s your understanding of the relationship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is the most significant experimental error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you think it’s a significan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you think it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nificant than other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t’s the most significant error empi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 Lab - how well does the data f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how your Work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rise/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2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id this number come from? What two points did you use? Why did you use these points as opposed to other points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o into too much detail though - showing one calculation is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Experiment is NEVER Ove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iversity, labs are often much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’re halfway through, and it’s not working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 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annoying to start the lab over from the beginning, but it’s worth it for goo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your TA will be impressed if you can identify problems and solve them on the s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naccurate data is NOT a bad th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you get bad data. What do you do? Fudge it so the experiment works? 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ask is to figure out what went wrong, fix it, and do the experiment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is isn’t possible, the experiment didn’t work, nothing you can do abou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prof/TA will focus on you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ot your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n’t get caught up in technolog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required to learn a lot of different software - graphing, statistical, diagramm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et the technology become th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explain in detail exactly the commands you used to find the line of be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, focus on what the technology is telling you about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d quantities should be ranges, not exac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think the value is about 5 cm, and you’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’s between 4 and 6, record 5 +/- 1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800600"/>
            <a:ext cx="518148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certainty cont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orget about uncertainty when performing calculations on you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Hooke’s Law Lab - let’s say m = 0.2 +/- 0.01 kg, x = .10 +/- .0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mg/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k = 0.2(9.8)/.1 = 19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342360" y="4724280"/>
            <a:ext cx="955764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possible k = 0.21(9.8)/.09 = 22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st possible k = 0.19(9.8)/.11 = 16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k = 19.6 +/- approximatel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certainty cont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ual accepted ways of incorporating uncertainty are more complicated than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n can we use uncertainty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rs, length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: if a scale gives you a reading of 5.0 kg, what is the uncertai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watch, Voltmeter, force meter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thing that gives a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25052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re about Uncertainty - “Human Error”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write “human err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an’t use traditional uncertainty, there’s always a better way to account fo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iming a mass falling to the floor - you won’t be able to time it precisely, so how do you incorporate uncertai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human reac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multiple trials to find a range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certainty vs. Experimental Err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’ve incorporated uncertainty, you CANNNOT use those measurements as experimental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Hooke’s Law Lab - you can incorporate uncertainty to account for ruler measurement error, inaccurate masses, oscillation of spring. What errors are le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rrors for the sake of err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though lab reports often ask for 3 experimental errors, the goal is to have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don’t write things like “we could have waited for the mass to stop oscillating” if you EASILY could have done th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ata Visualiz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838080" y="2209680"/>
          <a:ext cx="7239240" cy="19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23924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17:49Z</dcterms:created>
  <dc:creator>David Rutt</dc:creator>
  <dc:description/>
  <dc:language>en-US</dc:language>
  <cp:lastModifiedBy>David Rutt</cp:lastModifiedBy>
  <dcterms:modified xsi:type="dcterms:W3CDTF">2009-04-22T13:45:01Z</dcterms:modified>
  <cp:revision>1</cp:revision>
  <dc:subject/>
  <dc:title>Mr. Rutt’s Lab Tips</dc:title>
</cp:coreProperties>
</file>